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035-D015-462A-A07E-AA9634D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AC6-718A-4E71-8F8C-C1C5FF50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CF8-4DE9-442D-880C-39849CA4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E01-E024-4331-AE81-097AAD22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3DA-4469-4DFE-AE0F-9D6582D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AF2-4AC6-4015-B041-932609F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3A7-729A-49EE-82B1-4A9FC6D0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214-E3DF-4C9F-A3C5-C0E9B93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0C8-ED50-40A7-A3DA-E518E356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7EE-1714-4AB2-B361-93AC895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CC9-5A03-4B68-A3F9-CC4EAD7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E72-6A9A-4A57-968F-6CEC697B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FF7-93C6-4537-A8F3-2859AC45BC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スライド番号プレースホルダー 9"/>
          <p:cNvSpPr/>
          <p:nvPr/>
        </p:nvSpPr>
        <p:spPr>
          <a:xfrm>
            <a:off x="0" y="9516960"/>
            <a:ext cx="685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612-5F6B-4E5F-9DF1-CC226DF9BB85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3360" y="415800"/>
          <a:ext cx="6156360" cy="4364280"/>
        </p:xfrm>
        <a:graphic>
          <a:graphicData uri="http://schemas.openxmlformats.org/drawingml/2006/table">
            <a:tbl>
              <a:tblPr/>
              <a:tblGrid>
                <a:gridCol w="1362240"/>
                <a:gridCol w="4794120"/>
              </a:tblGrid>
              <a:tr h="497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会員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ber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住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res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558ed5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site UR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558ed5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連絡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 infor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616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会社概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ny out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テキスト ボックス 1"/>
          <p:cNvSpPr/>
          <p:nvPr/>
        </p:nvSpPr>
        <p:spPr>
          <a:xfrm>
            <a:off x="6009480" y="14940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別紙２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0:44:44Z</dcterms:created>
  <dc:creator>川崎市上下水道局</dc:creator>
  <dc:description/>
  <dc:language>en-US</dc:language>
  <cp:lastModifiedBy>川崎市上下水道局</cp:lastModifiedBy>
  <cp:lastPrinted>2016-10-28T04:47:36Z</cp:lastPrinted>
  <dcterms:modified xsi:type="dcterms:W3CDTF">2018-02-09T05:21:29Z</dcterms:modified>
  <cp:revision>71</cp:revision>
  <dc:subject/>
  <dc:title>PowerPoint プレゼンテーション</dc:title>
</cp:coreProperties>
</file>