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709-BA64-4EB0-8B49-91FE87BD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EE7-9A35-47FA-B7F1-C9DEA00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2BC-56EF-4A3D-85E1-C4F2A6F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329-960F-4000-A54C-FB39A752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CF6-36D0-4BDA-9A35-ACEE05F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416-F249-4E7A-88CE-75B166C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155-4F1E-4131-BB39-E2121450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83A-6BB4-4EF9-8506-2110F10D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BD1-CAF7-4BCA-B579-04E7388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03A-FEE5-4FC7-9342-C3F0B24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214-9E62-4B71-B7A8-89C7885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006-F943-49AC-B4D8-A87D49E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133-A7AD-47E1-82F1-94541BBA5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4640" y="333360"/>
          <a:ext cx="6048720" cy="803160"/>
        </p:xfrm>
        <a:graphic>
          <a:graphicData uri="http://schemas.openxmlformats.org/drawingml/2006/table">
            <a:tbl>
              <a:tblPr/>
              <a:tblGrid>
                <a:gridCol w="1330560"/>
                <a:gridCol w="4718160"/>
              </a:tblGrid>
              <a:tr h="803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会員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04640" y="1281240"/>
          <a:ext cx="6037560" cy="8280360"/>
        </p:xfrm>
        <a:graphic>
          <a:graphicData uri="http://schemas.openxmlformats.org/drawingml/2006/table">
            <a:tbl>
              <a:tblPr/>
              <a:tblGrid>
                <a:gridCol w="6037560"/>
              </a:tblGrid>
              <a:tr h="828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・貴社の水関連の技術・製品・ノウハウや海外展開の取組について、イラスト、写真、図面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　を用いてＰＲするエリアです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・Ａ４サイズ１枚に収まるようお願いします。（既存資料の貼付も可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・日本語・英語併記で記入をお願いします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・空白を作らないようお願いします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角丸四角形 7"/>
          <p:cNvSpPr/>
          <p:nvPr/>
        </p:nvSpPr>
        <p:spPr>
          <a:xfrm>
            <a:off x="5319720" y="415800"/>
            <a:ext cx="100800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ロ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0:44:44Z</dcterms:created>
  <dc:creator>川崎市上下水道局</dc:creator>
  <dc:description/>
  <dc:language>en-US</dc:language>
  <cp:lastModifiedBy>川崎市上下水道局</cp:lastModifiedBy>
  <cp:lastPrinted>2016-10-14T05:44:41Z</cp:lastPrinted>
  <dcterms:modified xsi:type="dcterms:W3CDTF">2017-10-12T02:55:52Z</dcterms:modified>
  <cp:revision>23</cp:revision>
  <dc:subject/>
  <dc:title>PowerPoint プレゼンテーション</dc:title>
</cp:coreProperties>
</file>